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49D-D6B8-4CB6-893D-7329485E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6CC-757E-4B0A-A2B8-CFF322BB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D4E-CE5B-4C1C-BD11-4779500A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74F-87F3-4967-A382-85648EB1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B647-4A10-468E-939A-A10F5CDB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EA5C-D07C-44B9-A11E-6497AD7B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6137-DA54-4A58-B305-127CB492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00CC-7338-447D-AC24-3BCA34A9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7CCF-1940-460A-84DD-1E3B19E2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87B3-1960-4C3A-8B16-DB80BE64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E55D-819A-437C-ACC9-6C25A38D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B51-56F1-4E7B-B8EF-F2136FD6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4292-7FC1-453A-9678-10697419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F05A-7828-4ED8-9A9E-69B300E6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3770-9E21-4055-A3BD-B6FC504B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C8EE-F6EA-4B7A-9600-96B0EBDE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951D-AE4C-4509-975F-A5BDCA65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70A-A1AD-4D7E-A803-EA9D6124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BEC-AF56-4CBF-9292-9FA3AB9E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C45-8C12-4F0F-8E54-CB619AF6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861-3C0D-4F33-ACE4-167365D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4DA-5060-4D54-B70C-300F2EA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42E-C4B3-4393-BE8D-4807CCF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A69-D1CE-4C96-895F-9C5346C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B3BE-2620-4A50-90DD-A4C7636F102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6CF-BA59-46D3-8036-3DD4ABE4E4C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dicated to Community Ser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ol Year 2010-201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ing of ones time and talent, by choice, to help others in the communit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monetary compensation, grade, or academic cred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nting to help others and make a differ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3" descr="xmas drive.jpg"/>
          <p:cNvPicPr/>
          <p:nvPr/>
        </p:nvPicPr>
        <p:blipFill>
          <a:blip r:embed="rId2"/>
          <a:stretch/>
        </p:blipFill>
        <p:spPr>
          <a:xfrm>
            <a:off x="2514600" y="411480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ing back to your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ol related benefi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ght Fu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erintendant’s Diploma of Distin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lking in Wh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larshi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w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2" descr="C:\Documents and Settings\cmmillig\Local Settings\Temporary Internet Files\Content.IE5\C5UV4HYJ\MC900353686[1].wmf"/>
          <p:cNvPicPr/>
          <p:nvPr/>
        </p:nvPicPr>
        <p:blipFill>
          <a:blip r:embed="rId2"/>
          <a:stretch/>
        </p:blipFill>
        <p:spPr>
          <a:xfrm>
            <a:off x="6324480" y="4114800"/>
            <a:ext cx="19465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ect a location that meets an identified community service with a public, non-profit agenc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gency should provide a safe, supervised environment and a volunteer job descrip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duties should be meaningful and provide a service to the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and your parent/guardian are solely responsible for selecting a community service lo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school: Clubs, peer tutoring, school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urch youth progr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ty Librar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nior Cen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lth Fai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Organiz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FM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C:\Documents and Settings\cmmillig\Local Settings\Temporary Internet Files\Content.IE5\4XYBG1M7\MC900297577[1].wmf"/>
          <p:cNvPicPr/>
          <p:nvPr/>
        </p:nvPicPr>
        <p:blipFill>
          <a:blip r:embed="rId2"/>
          <a:stretch/>
        </p:blipFill>
        <p:spPr>
          <a:xfrm>
            <a:off x="5486400" y="3581280"/>
            <a:ext cx="25909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agre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UST BE COMPLETED BEFORE YOU START YOUR HOURS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Program Sign in Shee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Program Student/Parent Guide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PS tips for Student Volunteers bookl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3:39:57Z</dcterms:created>
  <dc:creator>cmmillig</dc:creator>
  <dc:description/>
  <dc:language>en-US</dc:language>
  <cp:lastModifiedBy>jkheifne</cp:lastModifiedBy>
  <dcterms:modified xsi:type="dcterms:W3CDTF">2010-07-29T14:35:06Z</dcterms:modified>
  <cp:revision>8</cp:revision>
  <dc:subject/>
  <dc:title>Medical Academy</dc:title>
</cp:coreProperties>
</file>